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A7D493-357F-4425-B599-3F9FE7409D5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CB0CED-8F4E-456D-9D38-C251CFDD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B3DC7-F6D5-46BB-B880-02A27C28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8F6FA2-6132-477D-900B-6D217BA0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CE88BA-7F8C-4A68-9A60-7576571B6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2D2D32-D970-4A6F-AAED-82D3B731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5BE2FA-417C-4D1A-8352-BAABF69C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287BA9-B44B-478C-911C-682DC9AD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2CA9E4-DD40-4EB7-81BD-E2B1A478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E03B4E-0658-41B1-ABAE-A032D47F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B6AB64-3D06-412F-AEA1-B94B72F3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F9EDDC-698F-4B90-85EA-F9DEA248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FC4F52-EC80-4AEF-90D7-325D3B42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CA7EC4-7D13-467E-BEC7-DFF126BB1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1B2DB-2127-4F9E-8C4A-390908D1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A95E78-3966-46DC-87DA-1A1BAD0A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B7D8F9-4689-4EA8-AA8A-C96EE9EA8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25BAC-8DD0-46A6-987D-A41D3031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D173F9-2AD9-4752-B8A8-097F87C8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9C0DB3-D218-48EE-834C-A302DF45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1D5B00-A90A-495B-BFED-162B7B71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370B5D-5B72-4D4C-A54B-1BEC98F28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3E5DE7-B6B4-49D5-B97B-C9B3526FC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4EE1B1-7CCE-4F08-A2CC-31C1A613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258205-E8CF-4489-BB1D-711B1DB4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77AF10-9327-4634-AD45-462A92F4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E37339-026B-4BE3-9899-4D60AD6F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65499F-47CE-49AF-9639-BB6BA86C7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014817-AC2C-4E0B-B7F0-728E0EB1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A3BFF4-C182-449E-A384-56B98463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6F26B7-FE6F-43F1-9957-449E6DDC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404332-A740-48A5-9603-C5EBAB1F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7430-6135-4122-AB87-4170BD6F9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F88A-BA8A-4C77-B839-41DDE861C1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DBD1-3E7F-4DF9-B28A-43CFC1D830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B5A5-7C10-48EB-838D-0F1584B229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C70D-038C-454C-883A-42AE4F39697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3814-B88E-473F-A107-5BB16CB8CF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36EA-A9BC-4439-9DB9-8AAA8A5F40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143D-D6A6-4A57-B2AD-4228F7304B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310A-1C88-4507-9FEF-2EF3BEA546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7F94-10CA-46CA-A4A8-43682423A7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43BA-1569-46BA-A6B7-BFF254E000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6D373-4490-4883-A569-8E2555352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D784-E04C-4A5F-B79C-0ECA3568BD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44A50-EBF2-42C5-9830-16C0CF64F9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DEA4B-B132-4B31-BAAF-AB5A620AF8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ADAEE-B1BF-416F-A42F-D007B6F56A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2E09C-1355-4010-AB46-CC36851F9F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B58D5-FF57-4C2A-8B26-E4FBE1C071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E6BFB9-4CF4-4242-BA8F-C67DD082A7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156F5-EFCF-4EAA-9859-B93EE22BFE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5AC2E-8FAF-45F3-A442-E6EB691BBD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3CED9-F891-4394-BCF1-C180AE373B4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8C9F0-21A7-4677-9E62-56FD1A221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6167-B171-4A6C-9256-86AF1AD5D3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DDA8F-FEA8-45D8-A913-331184C7D4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007DC-3AC4-44B1-9DB1-533DCD1443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D6E24-C7CE-49BC-BFC5-B4AC9BFB2E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F470C-2BD6-4DEB-A99A-8ED84F57537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B954-8F5E-4E0A-8F39-28EE588B21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7956A-E01D-426E-95A0-FC938CC3D4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2AA2B-5A1C-4A74-BB06-A94F124D22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683CE-7442-497A-9CBC-EED487A5E0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009D0-669E-4452-A40A-28D595EC14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D99F0-D591-48E9-952B-6B8DB1513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66EA-29FB-417C-8006-07AACD3AA6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2C562-B9AF-4F91-BCFB-8F0ABD5F0B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D4336-F81F-4E06-B490-22C84ACD03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157ED-DACB-4324-86AD-1006C7D91B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D006-A5BE-42BE-B583-EF2E77443C5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1155-F987-4DAE-B625-6ECDB09A2C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912C-32DB-4334-B96F-7F13BBBB7E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C357-B62C-445B-8DEC-5EDB54AB7D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BA42-63B0-4B0A-A1BE-6250A219BBD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C99B-8258-4F83-B367-7AEE97DFCF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011E-5FD2-48FB-B4DD-718A006BE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B810-F3FC-43C0-9ED6-846CD39A25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1146-3ED8-4C92-B6AF-A06B712216E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5B7B-768A-4EFD-8FCC-F3D87186A9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805C-1D47-44D0-BE11-11E5FE2EC5C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05F6-028B-44E9-AF8B-D7267FFF0A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C4A8-4699-458A-8726-C57A8CF5A2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713FE-4175-47C2-A323-47BB2C109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BB20C-F0FB-4C6F-A2D5-7BB01284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DB2BC-289D-4D54-B763-85C4E3A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633A4-7D5A-454E-9C56-43A408A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31832-4624-46F0-8A64-6A76924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2938-7DF2-41B2-AFF2-F4700EEB2CC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B2E64-5153-4734-BE08-BD374CF8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CC137-BB4F-4F0A-BD2E-778E89B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8228B-1A9A-468B-8D93-4CEC337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CA1A3-0E4E-4A1C-85DC-8C6FDF8E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9C3BC-6D05-4B8D-AFCF-A56704F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E6027-283A-4D47-AED2-1AC75B5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5B38E-10E6-48D9-8DA3-C96B1CFAF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A9D5-95EA-40A8-ADF7-7E178E75D2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2066-9B5F-45E9-8D66-86683FD8F9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7141-7C99-43B6-9FBF-DD3DCD166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0602-39EB-4AAB-98C4-FC4ED8274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A924-1B39-4758-8C63-C9DD60EA4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C878-5B55-407F-9A55-44320430F8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8E1E-CD25-462D-96A8-4A4F40883A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DE56-396C-426D-BC9F-82BA049896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8B9E-DD90-4F6A-8C89-37D466584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4892-38E7-4825-B2E0-63C1159EE6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841-5960-499B-9F21-E2C96B10FF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806-5303-4121-8096-FD7893785B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91D-0B7E-4D4F-8CB7-84F0B64E95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E90-5CF0-4BD2-BC6E-C7449CD0DC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08F-476C-4794-A896-4C49FE57C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0289-77EA-4E47-A05B-D054E07E8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4DA-64D9-4565-B5A4-F28AB7BA34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464-947F-4C0C-AED3-EB5084A27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674-D039-40EE-925B-7995C8CAE3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56A-F8CC-425E-A128-03E831744D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F46-C56E-4EF2-A8D4-4F83769E16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E3B-2497-4479-9D47-FAF1719CC9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0BC-125E-4A96-93F2-B2DF87297B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0871B-6A34-4DE1-A774-989A8CE025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70A6-D081-4357-9DAA-B5C1532B73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AACDF-C8A7-42BB-A718-2A5950741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1212-71E8-420C-BBEC-76575104EA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A72B-6050-4554-A269-E252BF7267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295D8-4938-4FBB-9801-73F4CA3239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846FF-3EEA-493A-89FA-7AB7C02D4A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1741-4E51-46B6-9091-0499F6A96B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99CD-AF40-4D9A-8538-4EA8BE3470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8A4EC-1C6D-4C91-B483-6101F3FD20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F112C-47AB-45F6-B41B-4C6FB85559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799FD-ACF0-4B47-ACC2-70D2D4AFAC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F9A6-B51E-45AA-A7FA-DB38380B7B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95B71-4AFB-498C-AB3A-66A7C4AC0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6D5D-CB5E-4580-A476-908CBBE746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831F0-68AB-41B0-ABAB-C7BE4414CC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F58FB-6634-4184-BDF2-DA67BD107B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15ECF-E4F0-4EEF-B81E-87F17F914C7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DF375-BEC9-48A5-ACDB-110DA388CC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04C2A-8212-42C0-8FE8-BF642F8715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87C3F-2C19-45B5-947A-50E378FAB8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EA100-8489-48D6-8CBA-4DA7BC84BE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198AB-F25A-43E8-B204-1D600F5D61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114D-4647-4B8C-8CAC-10F1C183AF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290AE-7626-4A94-95FA-EB9B55464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710D-902B-4499-AA18-D9500DB5B5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9CC27-EF28-423A-A608-D6EA2663E4E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CE08-001F-4983-A751-258FABE178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D970-0FC5-4D41-AC6A-A1FE366574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B81-0803-4D5B-BB57-BD3B4FA9FF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8CAB-3695-42A0-81E6-2AAFAF5F16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8F13-9856-4EE6-A24C-3D0F273E97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FDE7-6214-43BA-8308-3640D11C6B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8B27-1EF2-43AC-BAE3-FCB12EFD20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4530-B548-4324-9E07-9513466191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CAA6-14D9-4229-ABA3-4CD90EF4F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F008-D60E-4E42-9664-2389C00B9C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0C6-0EE6-40D4-8FE2-387A50931B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92CA-CE6D-47A1-A999-A04AD54C44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27D-080C-49F5-9EBF-793B1D4817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D5408-214F-495F-A2CD-7188DAB6B8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0E2A5-AE49-4E01-8B13-10D1D9D84B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A9275-31C1-4C2C-9861-CDDC253E5E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8DE77-5542-4616-B46F-CFD553D09E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2BEC0-8807-4D69-B90F-22415C3079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59BBD-1257-42F2-AA22-EEB94D9728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16844-C9B5-4608-B539-E38D5D999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91EB-2E93-45B0-A1AC-0AA4105560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851A8-8294-4859-992C-6DA05F5797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48EEE-7AFA-4B0D-8950-C23A85B5E8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0B3B8-67A5-45F3-B3BC-8FDDCA284C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0B723-BF6E-454B-8966-B241F1A15E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D9FCC-8307-4642-956F-E5DFB07869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1A0AC-64AD-4677-8B7F-B813FFCCA3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5FFDB-4E07-450E-BB43-9E868287F0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161FD-FF01-492A-BA60-2BF85ECE6D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78DC1-BA43-4E4D-950E-D52642F911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07122-1BB6-4084-8425-6232291C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A3DD-CCB6-419A-9D99-AEFE33EDAA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ACBD7-3C1D-4DFC-BBC6-87652C5627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EA22F-F25F-4353-B13E-2782FE75888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0D247-3540-4D87-9A14-F0FDCB0CA9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9FF39-26DD-414B-BEB1-A79AB080178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A4442-A338-4DA9-812A-2C8C722BDC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E1399-3A6C-4A86-A609-C86C3D470B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25C1-8124-4354-A558-A6E68D01C63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608C-3E4E-4FB4-AD23-987D778432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23EF-7B0C-4322-9E39-D65B11F988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5EA2-1065-4BE1-9A1C-C275C8C1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A31088-B4E2-4F01-9736-2F9C9629349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8C8950-F1F4-4770-B5A8-563771A9C70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352905-3BBF-4315-A2BC-77619B5AB71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482ACA-81E2-4D56-B6CF-03C26C95F7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C8759-28F7-4607-91F0-2F1C9F760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210318-BE44-4160-927E-D9353B35FD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FBEFC8-5644-443D-BA28-CB34888A2E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2FE238-9E10-47AE-9F70-7A9E0591372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1C035-B281-48FA-ADCD-7A0CBA2C8E4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C07FA3-4851-47C3-B1A5-4ED16B4F6AD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790948-B6BB-477C-A3D2-901F4A2851B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20759A-8119-4423-B0B5-38C6DB7D85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D4976-4A79-4DB9-8BDF-D33209F2AA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6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7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8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8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9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0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0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1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1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2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3:27Z</dcterms:modified>
  <cp:revision>160</cp:revision>
  <dc:subject/>
  <dc:title>Παρουσίαση του PowerPoint</dc:title>
</cp:coreProperties>
</file>